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5.png" ContentType="image/png"/>
  <Override PartName="/ppt/media/image63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4938A-F197-4C99-A2E9-F245F61F7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CAFFB-81A1-47E6-A3E1-9784DC9F0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3D5D-E919-4AFC-BA9A-7EC4BCF06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627F-64C7-47E2-8DF7-497176930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824D-F60A-48B1-A589-65AC11DCB6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0F4EE-471D-448A-923E-A258B81A8B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5C5B4-5CDA-4A0C-AA16-12B2F06806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4F32A-C803-41DE-B3A7-625078A2E3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06E1D-8F49-4ABF-AF17-E7DD5DC876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053F4-57C2-4B46-A262-6402A2B1C1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5BB1-4502-45DD-91D7-2A94EFDC00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79291-2B56-48E3-98E8-8C76354617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07AD5-90B8-4E57-BBAF-FEACFB4322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111B2-9395-4D9B-84CC-EDDA24F0A8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F3B2F-1E2C-4D08-A5DA-5AD3A0933B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1536B-577B-4B5C-B0AB-0EE4EB2804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85533-245D-4A04-AF17-FC9F4E39D6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66AD7-26F5-4ACF-BF93-1BEC1FD27D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F26F-499F-4B1C-A8C8-BB640DF718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EFE7-B863-43DC-90B5-BADC016C006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A7D0-E49E-4F25-BC2C-975B1C2FE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CE2CD-D737-4159-9FFC-72A2F722769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C663-E793-489F-91AF-C870986BF2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4995-CA4A-4BAF-84AC-12EC8622A1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4EC5-8AAB-4691-9C28-B989B02B00D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8A71-467D-407F-88FE-3A585A8AE0C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5651-0B70-4DDA-8A77-47DB067DC0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597-3847-4727-938D-54361BC9047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91DB-29B8-474C-AF18-35A6C70014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4D01-6143-4180-BCD6-446978AB6C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3E69-5137-4670-BF45-708C6DFC34B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20F61-A46E-4078-925B-6835C0E6E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C7EE7-9D78-47CD-9FFB-11DB890E912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3DD86-547B-4724-BAD8-9CA008589DA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9E7ED-8DA8-4766-B906-662A3DC80A2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C924E-A12E-477F-88B9-2F27F867B1D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ADE3D-D01C-4E3A-90A0-457246963EB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C2C30-FAFD-44F7-A9FB-BC7D6A5F7F6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5DF3E-E470-42CA-9084-1491ADF9412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009B6-DCF7-4B62-B244-0DC503DD02C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A37F8-3B3C-4C38-838C-B6FD3B6EC46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B7FF4-6764-4D02-8F8D-1BF40115FE1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D90E1-9445-4CCB-B874-4F45FF71A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BAF1-E1ED-41FC-ABD1-46674757821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140EE-70A0-41F8-BDC3-26052B77E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B217-1EFB-43C7-8F0E-2457CAD81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8E83-EBF1-4755-A04B-0DBCE84BD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5156-3892-4368-859D-2F8206CCA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9D75-DF57-4E51-9167-96698D58F6D6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b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57200" y="428760"/>
            <a:ext cx="8686800" cy="640080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Rectangle 10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56" name="Rectangle 10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6"/>
          <p:cNvSpPr/>
          <p:nvPr/>
        </p:nvSpPr>
        <p:spPr>
          <a:xfrm rot="16200000">
            <a:off x="-2063880" y="38772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45720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Microsof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xcel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990720" y="1660680"/>
            <a:ext cx="8153280" cy="4114800"/>
            <a:chOff x="990720" y="1660680"/>
            <a:chExt cx="8153280" cy="4114800"/>
          </a:xfrm>
        </p:grpSpPr>
        <p:sp>
          <p:nvSpPr>
            <p:cNvPr id="62" name="Rectangle 4"/>
            <p:cNvSpPr/>
            <p:nvPr/>
          </p:nvSpPr>
          <p:spPr>
            <a:xfrm>
              <a:off x="7132680" y="1660680"/>
              <a:ext cx="201132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5" descr=""/>
            <p:cNvPicPr/>
            <p:nvPr/>
          </p:nvPicPr>
          <p:blipFill>
            <a:blip r:embed="rId4"/>
            <a:stretch/>
          </p:blipFill>
          <p:spPr>
            <a:xfrm>
              <a:off x="990720" y="1660680"/>
              <a:ext cx="617220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4"/>
          <p:cNvSpPr/>
          <p:nvPr/>
        </p:nvSpPr>
        <p:spPr>
          <a:xfrm>
            <a:off x="1447920" y="-76320"/>
            <a:ext cx="0" cy="76320"/>
          </a:xfrm>
          <a:prstGeom prst="line">
            <a:avLst/>
          </a:prstGeom>
          <a:ln w="9360">
            <a:solidFill>
              <a:srgbClr val="9bd2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2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A267-11F6-449D-933B-A8787977E077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6"/>
          <p:cNvSpPr/>
          <p:nvPr/>
        </p:nvSpPr>
        <p:spPr>
          <a:xfrm>
            <a:off x="0" y="0"/>
            <a:ext cx="1066680" cy="13716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7200" y="457200"/>
            <a:ext cx="8686800" cy="6400800"/>
          </a:xfrm>
          <a:prstGeom prst="rect">
            <a:avLst/>
          </a:prstGeom>
          <a:gradFill rotWithShape="0">
            <a:gsLst>
              <a:gs pos="0">
                <a:srgbClr val="26886d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2286000" y="2133720"/>
            <a:ext cx="68580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ectangle 13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160" name="Rectangle 13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14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4"/>
          <a:stretch/>
        </p:blipFill>
        <p:spPr>
          <a:xfrm>
            <a:off x="1444680" y="1365120"/>
            <a:ext cx="1682640" cy="36831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3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5683-4EB0-4302-BFC2-0E7067FC7C36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4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493F-3A7F-47E0-8E39-5F403FA19E6D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Subtitle 2" descr=""/>
          <p:cNvPicPr/>
          <p:nvPr/>
        </p:nvPicPr>
        <p:blipFill>
          <a:blip r:embed="rId1"/>
          <a:stretch/>
        </p:blipFill>
        <p:spPr>
          <a:xfrm>
            <a:off x="4084560" y="1646280"/>
            <a:ext cx="4456080" cy="725400"/>
          </a:xfrm>
          <a:prstGeom prst="rect">
            <a:avLst/>
          </a:prstGeom>
          <a:ln w="0">
            <a:noFill/>
          </a:ln>
        </p:spPr>
      </p:pic>
      <p:pic>
        <p:nvPicPr>
          <p:cNvPr id="250" name="Title 1" descr=""/>
          <p:cNvPicPr/>
          <p:nvPr/>
        </p:nvPicPr>
        <p:blipFill>
          <a:blip r:embed="rId2"/>
          <a:stretch/>
        </p:blipFill>
        <p:spPr>
          <a:xfrm>
            <a:off x="3943440" y="2255760"/>
            <a:ext cx="5419800" cy="330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275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973480" cy="1981080"/>
          </a:xfrm>
          <a:prstGeom prst="rect">
            <a:avLst/>
          </a:prstGeom>
          <a:ln w="0">
            <a:noFill/>
          </a:ln>
        </p:spPr>
      </p:pic>
      <p:sp>
        <p:nvSpPr>
          <p:cNvPr id="276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6605-52C5-4576-9465-0A538057D309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1371600" y="1904760"/>
            <a:ext cx="67816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does not find all types of erro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05280" indent="-3052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does not correct errors; it only helps locate them and may offer suggested corrections for some types of erro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05280" indent="-3052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must find and correct many types of erro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609480" y="1523880"/>
            <a:ext cx="2513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Go To Special dialog box can aid in locating several types of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2"/>
          <a:stretch/>
        </p:blipFill>
        <p:spPr>
          <a:xfrm>
            <a:off x="3270240" y="1628640"/>
            <a:ext cx="5492880" cy="454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" descr=""/>
          <p:cNvPicPr/>
          <p:nvPr/>
        </p:nvPicPr>
        <p:blipFill>
          <a:blip r:embed="rId2"/>
          <a:stretch/>
        </p:blipFill>
        <p:spPr>
          <a:xfrm>
            <a:off x="2590920" y="1365120"/>
            <a:ext cx="4316400" cy="503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6"/>
          <p:cNvSpPr/>
          <p:nvPr/>
        </p:nvSpPr>
        <p:spPr>
          <a:xfrm>
            <a:off x="762120" y="1258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When formulas have 3-D references, using multiple windows can aid in finding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2"/>
          <a:stretch/>
        </p:blipFill>
        <p:spPr>
          <a:xfrm>
            <a:off x="1828800" y="1714680"/>
            <a:ext cx="6248520" cy="46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Rectangle 5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7"/>
          <p:cNvSpPr/>
          <p:nvPr/>
        </p:nvSpPr>
        <p:spPr>
          <a:xfrm>
            <a:off x="1600200" y="2819520"/>
            <a:ext cx="6248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New Window button is on the View command tab. It opens a second window with the same workbook. You can work in either window; it’s the same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600200" y="1905120"/>
            <a:ext cx="533520" cy="53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7"/>
          <p:cNvSpPr/>
          <p:nvPr/>
        </p:nvSpPr>
        <p:spPr>
          <a:xfrm>
            <a:off x="4991040" y="5837400"/>
            <a:ext cx="373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Excel finds errors that refer to empty cell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7472160" cy="346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3" name="Text Box 7"/>
          <p:cNvSpPr/>
          <p:nvPr/>
        </p:nvSpPr>
        <p:spPr>
          <a:xfrm>
            <a:off x="914400" y="1447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isplaying formulas helps to locate formula inconsisten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"/>
          <p:cNvSpPr/>
          <p:nvPr/>
        </p:nvSpPr>
        <p:spPr>
          <a:xfrm>
            <a:off x="4572000" y="5105520"/>
            <a:ext cx="2133720" cy="495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296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4449600" cy="151128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BEBE-386C-4304-8D4B-635ADBD4072C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676520" y="2004480"/>
            <a:ext cx="58672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IFERROR function allows you to set your own error value messa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t is in the Logical categor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t has two arguments,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Value_if_error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0" name="Picture 1" descr=""/>
          <p:cNvPicPr/>
          <p:nvPr/>
        </p:nvPicPr>
        <p:blipFill>
          <a:blip r:embed="rId2"/>
          <a:stretch/>
        </p:blipFill>
        <p:spPr>
          <a:xfrm>
            <a:off x="6373800" y="3000240"/>
            <a:ext cx="490680" cy="490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6"/>
          <p:cNvSpPr/>
          <p:nvPr/>
        </p:nvSpPr>
        <p:spPr>
          <a:xfrm>
            <a:off x="838080" y="541008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Instead of showing the default #VALUE! error message when the formula has an error, this formula will show “Check Points sheet!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2"/>
          <a:stretch/>
        </p:blipFill>
        <p:spPr>
          <a:xfrm>
            <a:off x="1371600" y="1386000"/>
            <a:ext cx="6715080" cy="39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52" name="Slide Number Placeholder 12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C2F3-207B-4526-8A2E-CE0207D7BF17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Content Placeholder 3" descr=""/>
          <p:cNvPicPr/>
          <p:nvPr/>
        </p:nvPicPr>
        <p:blipFill>
          <a:blip r:embed="rId2"/>
          <a:stretch/>
        </p:blipFill>
        <p:spPr>
          <a:xfrm>
            <a:off x="378000" y="1395360"/>
            <a:ext cx="8442000" cy="4853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8"/>
          <p:cNvSpPr/>
          <p:nvPr/>
        </p:nvSpPr>
        <p:spPr>
          <a:xfrm>
            <a:off x="2200320" y="1295280"/>
            <a:ext cx="671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e Watch Window displays formula cells and their results. Use it for a large worksheet or one that has 3-D refer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6629400" cy="392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7" name="Picture 4" descr=""/>
          <p:cNvPicPr/>
          <p:nvPr/>
        </p:nvPicPr>
        <p:blipFill>
          <a:blip r:embed="rId3"/>
          <a:stretch/>
        </p:blipFill>
        <p:spPr>
          <a:xfrm>
            <a:off x="1228680" y="1371600"/>
            <a:ext cx="523800" cy="523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09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4449600" cy="1511280"/>
          </a:xfrm>
          <a:prstGeom prst="rect">
            <a:avLst/>
          </a:prstGeom>
          <a:ln w="0">
            <a:noFill/>
          </a:ln>
        </p:spPr>
      </p:pic>
      <p:sp>
        <p:nvSpPr>
          <p:cNvPr id="310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9776-CB1D-4FFB-87DD-67C9998E767F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1295280" y="1980720"/>
            <a:ext cx="7010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Data validation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ecks a cell entry to determine if it matches conditions that have been s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data validation list is a way to standardize data entry and reduce erro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data validation list can be keyed, or it can refer to an existing ran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6"/>
          <p:cNvSpPr/>
          <p:nvPr/>
        </p:nvSpPr>
        <p:spPr>
          <a:xfrm>
            <a:off x="533520" y="14479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s data validation list is the range named C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3352680" y="1600200"/>
            <a:ext cx="5329440" cy="445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853920" y="-6480"/>
            <a:ext cx="8418600" cy="115884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8"/>
          <p:cNvSpPr/>
          <p:nvPr/>
        </p:nvSpPr>
        <p:spPr>
          <a:xfrm>
            <a:off x="609480" y="1603440"/>
            <a:ext cx="2819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n Error Alert appears when a cell entry violates the sett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Warning style does allow an invalid entry to be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3638520" y="1635120"/>
            <a:ext cx="5200560" cy="438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20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4698720" cy="151128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9A76-0CC7-4B72-980F-A3BC88B7A586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294920" y="16761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commen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s pop-up explanatory text attached to a cel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ments can be set to display a small red triangle in the upper-right corner of the cell so that they appear only when you hover at the cel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ments can be set to appear on screen at all tim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isplay choices are made in Excel Options (Advanced pane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6"/>
          <p:cNvSpPr/>
          <p:nvPr/>
        </p:nvSpPr>
        <p:spPr>
          <a:xfrm>
            <a:off x="2057400" y="1371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comment is an object that can be ed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2"/>
          <a:stretch/>
        </p:blipFill>
        <p:spPr>
          <a:xfrm>
            <a:off x="2030400" y="1981080"/>
            <a:ext cx="5540400" cy="392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6"/>
          <p:cNvSpPr/>
          <p:nvPr/>
        </p:nvSpPr>
        <p:spPr>
          <a:xfrm>
            <a:off x="1973160" y="1216080"/>
            <a:ext cx="57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mments can be set to display at all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" descr=""/>
          <p:cNvPicPr/>
          <p:nvPr/>
        </p:nvPicPr>
        <p:blipFill>
          <a:blip r:embed="rId2"/>
          <a:stretch/>
        </p:blipFill>
        <p:spPr>
          <a:xfrm>
            <a:off x="1690560" y="1681200"/>
            <a:ext cx="6081840" cy="462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0" name="Oval 3"/>
          <p:cNvSpPr/>
          <p:nvPr/>
        </p:nvSpPr>
        <p:spPr>
          <a:xfrm>
            <a:off x="5392800" y="5776920"/>
            <a:ext cx="4572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4"/>
          <p:cNvSpPr/>
          <p:nvPr/>
        </p:nvSpPr>
        <p:spPr>
          <a:xfrm>
            <a:off x="6553080" y="5881680"/>
            <a:ext cx="246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rbel"/>
              </a:rPr>
              <a:t>A comment can be siz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33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010120" cy="151128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A354-AF45-434B-8ECA-6703B1E18AC4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255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059080" cy="1511280"/>
          </a:xfrm>
          <a:prstGeom prst="rect">
            <a:avLst/>
          </a:prstGeom>
          <a:ln w="0">
            <a:noFill/>
          </a:ln>
        </p:spPr>
      </p:pic>
      <p:sp>
        <p:nvSpPr>
          <p:cNvPr id="256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BFEF-5E1A-41C4-A553-2E1F926A5424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523520" y="182880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 image adds visual appeal to a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 image is an object on the draw laye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size, position, color, shadow, border and more can be changed, depending on the original image forma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6"/>
          <p:cNvSpPr/>
          <p:nvPr/>
        </p:nvSpPr>
        <p:spPr>
          <a:xfrm>
            <a:off x="2133720" y="2057400"/>
            <a:ext cx="6476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use images that are saved in a format that Excel recognizes. Typical image formats are JPEG, PNG, TIF, GIF, PCX, and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Insert Picture from File button is on the Insert command ta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"/>
          <p:cNvPicPr/>
          <p:nvPr/>
        </p:nvPicPr>
        <p:blipFill>
          <a:blip r:embed="rId2"/>
          <a:stretch/>
        </p:blipFill>
        <p:spPr>
          <a:xfrm>
            <a:off x="2685960" y="1576440"/>
            <a:ext cx="6229440" cy="467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2" name="TextBox 3"/>
          <p:cNvSpPr/>
          <p:nvPr/>
        </p:nvSpPr>
        <p:spPr>
          <a:xfrm>
            <a:off x="533520" y="147312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n image, when inserted, is at a default size. The Picture Tools Format tab is available when the image is sel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6"/>
          <p:cNvSpPr/>
          <p:nvPr/>
        </p:nvSpPr>
        <p:spPr>
          <a:xfrm>
            <a:off x="2209680" y="1258920"/>
            <a:ext cx="541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n image can be adjusted from the Picture Tools Format tab or from the Format Picture dialog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1917720" y="1981080"/>
            <a:ext cx="5705280" cy="433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6"/>
          <p:cNvSpPr/>
          <p:nvPr/>
        </p:nvSpPr>
        <p:spPr>
          <a:xfrm>
            <a:off x="106668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mages can be copied, and multiple images can be alig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2"/>
          <a:stretch/>
        </p:blipFill>
        <p:spPr>
          <a:xfrm>
            <a:off x="685800" y="2266920"/>
            <a:ext cx="8267760" cy="29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50" name="Title 5" descr=""/>
          <p:cNvPicPr/>
          <p:nvPr/>
        </p:nvPicPr>
        <p:blipFill>
          <a:blip r:embed="rId2"/>
          <a:stretch/>
        </p:blipFill>
        <p:spPr>
          <a:xfrm>
            <a:off x="3024360" y="2676600"/>
            <a:ext cx="6448320" cy="2084400"/>
          </a:xfrm>
          <a:prstGeom prst="rect">
            <a:avLst/>
          </a:prstGeom>
          <a:ln w="0">
            <a:noFill/>
          </a:ln>
        </p:spPr>
      </p:pic>
      <p:sp>
        <p:nvSpPr>
          <p:cNvPr id="351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70FB-D8CA-4D05-A7CA-B8106282B4D7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006560" y="-139680"/>
            <a:ext cx="7991280" cy="132228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6"/>
          <p:cNvSpPr/>
          <p:nvPr/>
        </p:nvSpPr>
        <p:spPr>
          <a:xfrm>
            <a:off x="685800" y="143820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Accessibility Checker identifies content that might be difficult to see for persons who are visually impaired. This command is on the Info pane in Backstage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2144880" y="2590920"/>
            <a:ext cx="634176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6"/>
          <p:cNvSpPr/>
          <p:nvPr/>
        </p:nvSpPr>
        <p:spPr>
          <a:xfrm>
            <a:off x="457200" y="121932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e Accessibility Checker suggests ways to correct visibility concerns. These include changing colors or providing alternate tex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" descr=""/>
          <p:cNvPicPr/>
          <p:nvPr/>
        </p:nvPicPr>
        <p:blipFill>
          <a:blip r:embed="rId2"/>
          <a:stretch/>
        </p:blipFill>
        <p:spPr>
          <a:xfrm>
            <a:off x="1905120" y="2104920"/>
            <a:ext cx="5727600" cy="429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6"/>
          <p:cNvSpPr/>
          <p:nvPr/>
        </p:nvSpPr>
        <p:spPr>
          <a:xfrm>
            <a:off x="649440" y="1530360"/>
            <a:ext cx="331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e Document Inspector finds metadata and personal information that can be removed before saving a workboo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is is a privacy concern for businesses and individu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rcRect l="22541" t="12487" r="22858" b="20850"/>
          <a:stretch/>
        </p:blipFill>
        <p:spPr>
          <a:xfrm>
            <a:off x="3886200" y="1523880"/>
            <a:ext cx="499284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1599840" y="1752120"/>
            <a:ext cx="6553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digital signature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s a property that electronically authenticates an Excel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digital signature is not visible in the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digital signature does not provide a high level of securit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Auditing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s the practice of examining cells and formulas for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performs some background error checking while you wor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tiny green triangle in the upper-left corner highlights potential problems in a cel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me errors  display an error value message in the cel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" descr=""/>
          <p:cNvPicPr/>
          <p:nvPr/>
        </p:nvPicPr>
        <p:blipFill>
          <a:blip r:embed="rId2"/>
          <a:stretch/>
        </p:blipFill>
        <p:spPr>
          <a:xfrm>
            <a:off x="2895480" y="1600200"/>
            <a:ext cx="609624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5" name="TextBox 2"/>
          <p:cNvSpPr/>
          <p:nvPr/>
        </p:nvSpPr>
        <p:spPr>
          <a:xfrm>
            <a:off x="533520" y="1598760"/>
            <a:ext cx="2361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digital signature is a Protect Workbook command. It requires that a digital ID be created at your compu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2362320" y="1465200"/>
            <a:ext cx="6553080" cy="463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8" name="Text Box 6"/>
          <p:cNvSpPr/>
          <p:nvPr/>
        </p:nvSpPr>
        <p:spPr>
          <a:xfrm>
            <a:off x="447840" y="1468440"/>
            <a:ext cx="191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workbook with a digital signature is [Read Only]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371240" y="213372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uditing is the practice of examining cells and formulas for accuracy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provides several tools to help you audit your worksheet for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performs background error checking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121896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ossible errors are noted with a tiny green triangle. Some error types display an error value messa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n a cell displays an error value message, you can evaluate each element in the formula step by step to pinpoint the cause of the erro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error messages print with the worksheet unless the setting is changed in the Page Setup dialog box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447920" y="1828440"/>
            <a:ext cx="67053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Formula Auditing group on the Formulas command tab includes commands for tracing and evaluating formula erro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precedent contributes or provides data to a formula’s resul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dependent is a cell that relies on another cell for its valu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use the Go To Special dialog box to select cells with errors, blanks, and other types of da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05280" indent="-3052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aving multiple windows of the same workbook is a way to monitor 3-D references and formulas as well as large workshee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05280" indent="-3052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isplay the formulas to aid in locating erro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1218960" y="190512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Watch Window displays formula cells and related information in a separate window that floats over the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IFERROR function from the Logical category enables you to create your own error messag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295280" y="17524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ata validation specifies what data are permissible in a range of cells. It is a method of ensuring accuracy for some types of entri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data validation list is a set of data from which a choice is mad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t is possible to allow invalid entries to be made with a warning or to prohibit the entri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371600" y="175248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omment is a text box attached to a cell. Comments can be used for annotations, notes, or explanatio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ny types of images can be placed on a worksheet. They are objects and can be sized, positioned, and formatt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Picture Tools Format tab provides the commands for modifying a pictu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295280" y="160020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Accessibility Checker scans a workbook for cells and objects that might be problematic for a person with a visual impairmen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Document Inspector finds metadata and personal information in a workbook for possible remova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digital signature authenticates your work at your own computer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1871640" y="1447920"/>
            <a:ext cx="5400720" cy="47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5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7"/>
          <p:cNvSpPr/>
          <p:nvPr/>
        </p:nvSpPr>
        <p:spPr>
          <a:xfrm>
            <a:off x="522360" y="1371600"/>
            <a:ext cx="267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over at the Error Checking Options button to display a ScreenTip about the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2"/>
          <a:stretch/>
        </p:blipFill>
        <p:spPr>
          <a:xfrm>
            <a:off x="3276720" y="1371600"/>
            <a:ext cx="5646600" cy="495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5" descr=""/>
          <p:cNvPicPr/>
          <p:nvPr/>
        </p:nvPicPr>
        <p:blipFill>
          <a:blip r:embed="rId1"/>
          <a:stretch/>
        </p:blipFill>
        <p:spPr>
          <a:xfrm>
            <a:off x="817560" y="-6480"/>
            <a:ext cx="8570880" cy="11588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7"/>
          <p:cNvSpPr/>
          <p:nvPr/>
        </p:nvSpPr>
        <p:spPr>
          <a:xfrm>
            <a:off x="914400" y="126684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Evaluate Formula command steps through each part of a formula so that you can determine where the error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7239240" cy="407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2" descr=""/>
          <p:cNvPicPr/>
          <p:nvPr/>
        </p:nvPicPr>
        <p:blipFill>
          <a:blip r:embed="rId1"/>
          <a:stretch/>
        </p:blipFill>
        <p:spPr>
          <a:xfrm>
            <a:off x="927000" y="-6480"/>
            <a:ext cx="8375760" cy="11588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"/>
          <p:cNvSpPr/>
          <p:nvPr/>
        </p:nvSpPr>
        <p:spPr>
          <a:xfrm>
            <a:off x="1981080" y="1981080"/>
            <a:ext cx="670572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dependent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is a cell that relies on another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precedent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is a cell that contributes to a formula’s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ither cell type can cause a formula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2"/>
          <a:stretch/>
        </p:blipFill>
        <p:spPr>
          <a:xfrm>
            <a:off x="1219320" y="2057400"/>
            <a:ext cx="457200" cy="457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70" name="Picture 4" descr=""/>
          <p:cNvPicPr/>
          <p:nvPr/>
        </p:nvPicPr>
        <p:blipFill>
          <a:blip r:embed="rId3"/>
          <a:stretch/>
        </p:blipFill>
        <p:spPr>
          <a:xfrm>
            <a:off x="1219320" y="3200400"/>
            <a:ext cx="457200" cy="457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927000" y="-6480"/>
            <a:ext cx="8339400" cy="11588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914400" y="160020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error in cell C14 traces to cell C7 and to cell C3 on the Points worksheet. These are precedent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4114800" y="1525680"/>
            <a:ext cx="440856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7:00:57Z</dcterms:created>
  <dc:creator>Pat R. Graves</dc:creator>
  <dc:description/>
  <dc:language>en-US</dc:language>
  <cp:lastModifiedBy>cathy_tepper</cp:lastModifiedBy>
  <dcterms:modified xsi:type="dcterms:W3CDTF">2010-07-07T21:10:05Z</dcterms:modified>
  <cp:revision>78</cp:revision>
  <dc:subject/>
  <dc:title>Microsoft office</dc:title>
</cp:coreProperties>
</file>